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981-DC0F-4B6E-8FBF-7F62445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45C-9FAC-4120-A76D-53B3D6F3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EEC-BB1C-4AF8-BC32-DBB6AA1C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FE5-FB90-4C71-8DCF-B9AA62A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D59-89F7-43D4-8678-709563AA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C53-13BF-41FE-BFFD-AF17674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29D-538F-4FED-B777-B88B407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532-98BE-474D-B9A7-D5608656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B94-0E6A-4381-9EF0-BED82931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89C-A6BB-4C9A-B537-8FCDDD7D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493-6076-483C-9BB6-34357AD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BA4-7E7D-47FE-86E0-6132D1B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EB5-4DFA-4791-94C3-D3D4280F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9237" r="17817" b="6212"/>
          <a:stretch/>
        </p:blipFill>
        <p:spPr>
          <a:xfrm>
            <a:off x="304920" y="11430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in zu Besuch in Berl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Berlin Wall mit meiner Mu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Berliner 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darmenmar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h besuchte die Gamaldegale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h besuchte die Zoologischer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5628" t="27343" r="5624" b="23438"/>
          <a:stretch/>
        </p:blipFill>
        <p:spPr>
          <a:xfrm>
            <a:off x="762120" y="1371600"/>
            <a:ext cx="350496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205740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unserm Hotel gibt es das Restaura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afé, Frei Frühstück und Frei Wi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31:59Z</dcterms:created>
  <dc:creator>CUSD220</dc:creator>
  <dc:description/>
  <dc:language>en-US</dc:language>
  <cp:lastModifiedBy>CUSD220</cp:lastModifiedBy>
  <dcterms:modified xsi:type="dcterms:W3CDTF">2012-01-06T18:42:52Z</dcterms:modified>
  <cp:revision>3</cp:revision>
  <dc:subject/>
  <dc:title>Slide 1</dc:title>
</cp:coreProperties>
</file>